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77E-60A2-40E6-82F5-C0272096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596D-2245-4DA2-BC63-FD633216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8802-7380-467D-8DDD-F942DD8E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AF7A-1D3D-4E66-844A-6EB04783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801E-080F-44D7-8F97-A09A8DE4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863-DFCA-46F2-A6B5-7DB71DB0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B4B0-CE03-4C51-A6F5-43D20BD3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6458-4795-4E4D-8267-0DAAD28D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ABA3-CAF0-4D5A-9DD5-52C39D8D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B8CF-9108-4380-885E-C44C2910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60CE-580D-4EA9-82F0-B29FBC2D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04AC-8CDF-4A56-BFFC-9EB8D5B0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5794-6B9F-4C96-A96D-97EAD8ED0C2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ousin K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hristina Rosset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231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lax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u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oe’s 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there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cast me b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ry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ean esta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s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coro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43280" y="16002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ale-yellow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empted into a tra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orrow/misfortune is m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f thi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rew me of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am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ereal cro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oor background/hom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at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row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Jane Klima</cp:lastModifiedBy>
  <dcterms:modified xsi:type="dcterms:W3CDTF">2014-11-18T13:21:36Z</dcterms:modified>
  <cp:revision>29</cp:revision>
  <dc:subject/>
  <dc:title>La Belle Dame Sans Merci</dc:title>
</cp:coreProperties>
</file>